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E7E-4555-4F80-8360-82998555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818-5C60-4041-9397-D1FD263A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8B3-10B6-48CE-B872-0FCB0370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441-820F-46A9-8478-27E90B59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B4CE-12BE-4FB0-BC09-642A5DCB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785D-4CF7-42CE-BBF8-9D53D557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74BB-F002-4B7E-B574-23B3CD99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284D-4D12-464E-AAB1-1C1BCB7A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7FED-F666-44FA-BA39-FA210C8F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E875-0611-4936-853D-76023EAB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12BE-6522-45EB-A452-483C68D5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A5A-3158-47F0-92B8-E6C61647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81DA-617E-462A-A389-AEC8901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4FA3-E0E9-49A9-8AC8-F33FF7EC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8045-F398-404C-BA93-1377E25E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5EB0-9857-47A6-9C41-E8CAABBD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5D69-0765-4C51-91DD-22D7B437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0FB-0461-4D40-A3DB-8FEEE34F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A62-A4C6-474D-98E9-AC049F32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C45-4AFE-4CB7-8807-2EC449F1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29C-1886-4C81-AF7E-2BC24989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840-D434-4843-A4D5-95475F39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42D-BBEB-4FA0-B339-EFF57F6F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8DF-B4AB-4DB9-86BC-10910099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380B-E142-42F3-B85F-FD6BFC7147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6B5E-806A-4686-A722-5ABFE2C4167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ormbase.org/das/genome/wormbase/1" TargetMode="External"/><Relationship Id="rId2" Type="http://schemas.openxmlformats.org/officeDocument/2006/relationships/hyperlink" Target="http://wormbase.org/das/genome/wormbase/1/type/tRN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ormbase.org/das/wormbase/1/genome/featur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istributed Annotation System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Version 2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, UCL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thony Cox, EBI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egg Helt, Affymetri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drew Dalke, Dalke Scientific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AS/1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95120" y="1523880"/>
            <a:ext cx="1415160" cy="1069200"/>
            <a:chOff x="2895120" y="1523880"/>
            <a:chExt cx="1415160" cy="1069200"/>
          </a:xfrm>
        </p:grpSpPr>
        <p:grpSp>
          <p:nvGrpSpPr>
            <p:cNvPr id="87" name=""/>
            <p:cNvGrpSpPr/>
            <p:nvPr/>
          </p:nvGrpSpPr>
          <p:grpSpPr>
            <a:xfrm>
              <a:off x="3276720" y="1523880"/>
              <a:ext cx="530280" cy="806400"/>
              <a:chOff x="3276720" y="1523880"/>
              <a:chExt cx="530280" cy="806400"/>
            </a:xfrm>
          </p:grpSpPr>
          <p:sp>
            <p:nvSpPr>
              <p:cNvPr id="88" name=""/>
              <p:cNvSpPr/>
              <p:nvPr/>
            </p:nvSpPr>
            <p:spPr>
              <a:xfrm>
                <a:off x="327672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595959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3864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307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7516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95120" y="228600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ference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62320" y="2590560"/>
            <a:ext cx="1218960" cy="1295280"/>
            <a:chOff x="2362320" y="2590560"/>
            <a:chExt cx="1218960" cy="1295280"/>
          </a:xfrm>
        </p:grpSpPr>
        <p:sp>
          <p:nvSpPr>
            <p:cNvPr id="94" name=""/>
            <p:cNvSpPr/>
            <p:nvPr/>
          </p:nvSpPr>
          <p:spPr>
            <a:xfrm flipV="1">
              <a:off x="2362320" y="32000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62320" y="3200400"/>
              <a:ext cx="12189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8128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2280" y="3962520"/>
            <a:ext cx="4572000" cy="14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41972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49568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4572000"/>
            <a:ext cx="11430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240" y="41148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30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10720" y="42670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51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5720" y="41911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M101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5556240"/>
            <a:ext cx="603000" cy="1149120"/>
            <a:chOff x="2133720" y="5556240"/>
            <a:chExt cx="603000" cy="1149120"/>
          </a:xfrm>
        </p:grpSpPr>
        <p:grpSp>
          <p:nvGrpSpPr>
            <p:cNvPr id="105" name=""/>
            <p:cNvGrpSpPr/>
            <p:nvPr/>
          </p:nvGrpSpPr>
          <p:grpSpPr>
            <a:xfrm>
              <a:off x="2133720" y="6013440"/>
              <a:ext cx="603000" cy="691920"/>
              <a:chOff x="2133720" y="6013440"/>
              <a:chExt cx="603000" cy="6919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3372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2236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060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2696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4784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5396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V="1">
              <a:off x="2438280" y="555624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4280" y="1523880"/>
            <a:ext cx="1524240" cy="1067760"/>
            <a:chOff x="4724280" y="1523880"/>
            <a:chExt cx="1524240" cy="1067760"/>
          </a:xfrm>
        </p:grpSpPr>
        <p:grpSp>
          <p:nvGrpSpPr>
            <p:cNvPr id="126" name=""/>
            <p:cNvGrpSpPr/>
            <p:nvPr/>
          </p:nvGrpSpPr>
          <p:grpSpPr>
            <a:xfrm>
              <a:off x="5181480" y="1523880"/>
              <a:ext cx="530280" cy="806400"/>
              <a:chOff x="5181480" y="1523880"/>
              <a:chExt cx="530280" cy="806400"/>
            </a:xfrm>
          </p:grpSpPr>
          <p:sp>
            <p:nvSpPr>
              <p:cNvPr id="127" name=""/>
              <p:cNvSpPr/>
              <p:nvPr/>
            </p:nvSpPr>
            <p:spPr>
              <a:xfrm>
                <a:off x="518148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4340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3548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799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724280" y="2286000"/>
              <a:ext cx="152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81280" y="2590560"/>
            <a:ext cx="1905120" cy="609840"/>
            <a:chOff x="3581280" y="2590560"/>
            <a:chExt cx="1905120" cy="609840"/>
          </a:xfrm>
        </p:grpSpPr>
        <p:sp>
          <p:nvSpPr>
            <p:cNvPr id="133" name=""/>
            <p:cNvSpPr/>
            <p:nvPr/>
          </p:nvSpPr>
          <p:spPr>
            <a:xfrm flipH="1">
              <a:off x="3581280" y="3200400"/>
              <a:ext cx="1905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864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523880"/>
            <a:ext cx="1523880" cy="1067760"/>
            <a:chOff x="6858000" y="1523880"/>
            <a:chExt cx="1523880" cy="1067760"/>
          </a:xfrm>
        </p:grpSpPr>
        <p:grpSp>
          <p:nvGrpSpPr>
            <p:cNvPr id="136" name=""/>
            <p:cNvGrpSpPr/>
            <p:nvPr/>
          </p:nvGrpSpPr>
          <p:grpSpPr>
            <a:xfrm>
              <a:off x="7315200" y="1523880"/>
              <a:ext cx="530280" cy="806400"/>
              <a:chOff x="7315200" y="1523880"/>
              <a:chExt cx="530280" cy="806400"/>
            </a:xfrm>
          </p:grpSpPr>
          <p:sp>
            <p:nvSpPr>
              <p:cNvPr id="137" name=""/>
              <p:cNvSpPr/>
              <p:nvPr/>
            </p:nvSpPr>
            <p:spPr>
              <a:xfrm>
                <a:off x="73152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3771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692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36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68580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800600" y="3962520"/>
            <a:ext cx="4261320" cy="1447560"/>
            <a:chOff x="4800600" y="3962520"/>
            <a:chExt cx="4261320" cy="1447560"/>
          </a:xfrm>
        </p:grpSpPr>
        <p:grpSp>
          <p:nvGrpSpPr>
            <p:cNvPr id="143" name=""/>
            <p:cNvGrpSpPr/>
            <p:nvPr/>
          </p:nvGrpSpPr>
          <p:grpSpPr>
            <a:xfrm>
              <a:off x="4800600" y="3962520"/>
              <a:ext cx="4191120" cy="1447560"/>
              <a:chOff x="4800600" y="3962520"/>
              <a:chExt cx="4191120" cy="1447560"/>
            </a:xfrm>
          </p:grpSpPr>
          <p:sp>
            <p:nvSpPr>
              <p:cNvPr id="144" name=""/>
              <p:cNvSpPr/>
              <p:nvPr/>
            </p:nvSpPr>
            <p:spPr>
              <a:xfrm>
                <a:off x="4800600" y="3962520"/>
                <a:ext cx="4191120" cy="14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29200" y="441972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449568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77320" y="4572000"/>
                <a:ext cx="83808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63200" y="4114800"/>
                <a:ext cx="102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AC00302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54040" y="419112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M1015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578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150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8168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866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7732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81480" y="4800600"/>
                <a:ext cx="365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41008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9343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8487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800100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85345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1640" y="4572000"/>
                <a:ext cx="62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1029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31920" y="4572000"/>
                <a:ext cx="65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82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45600" y="457200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1126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51000" y="4572000"/>
                <a:ext cx="55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44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8041320" y="4267080"/>
              <a:ext cx="102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AC0051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200" y="1523880"/>
            <a:ext cx="1523880" cy="1067760"/>
            <a:chOff x="457200" y="1523880"/>
            <a:chExt cx="1523880" cy="1067760"/>
          </a:xfrm>
        </p:grpSpPr>
        <p:grpSp>
          <p:nvGrpSpPr>
            <p:cNvPr id="168" name=""/>
            <p:cNvGrpSpPr/>
            <p:nvPr/>
          </p:nvGrpSpPr>
          <p:grpSpPr>
            <a:xfrm>
              <a:off x="914400" y="1523880"/>
              <a:ext cx="530280" cy="806400"/>
              <a:chOff x="914400" y="1523880"/>
              <a:chExt cx="530280" cy="806400"/>
            </a:xfrm>
          </p:grpSpPr>
          <p:sp>
            <p:nvSpPr>
              <p:cNvPr id="169" name=""/>
              <p:cNvSpPr/>
              <p:nvPr/>
            </p:nvSpPr>
            <p:spPr>
              <a:xfrm>
                <a:off x="9144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763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684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128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572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42640" y="2590560"/>
            <a:ext cx="1219320" cy="609840"/>
            <a:chOff x="1142640" y="2590560"/>
            <a:chExt cx="1219320" cy="609840"/>
          </a:xfrm>
        </p:grpSpPr>
        <p:sp>
          <p:nvSpPr>
            <p:cNvPr id="175" name=""/>
            <p:cNvSpPr/>
            <p:nvPr/>
          </p:nvSpPr>
          <p:spPr>
            <a:xfrm flipH="1">
              <a:off x="1142640" y="3200400"/>
              <a:ext cx="12193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1430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7200" y="4724280"/>
            <a:ext cx="3809880" cy="76320"/>
            <a:chOff x="457200" y="4724280"/>
            <a:chExt cx="3809880" cy="76320"/>
          </a:xfrm>
        </p:grpSpPr>
        <p:sp>
          <p:nvSpPr>
            <p:cNvPr id="178" name=""/>
            <p:cNvSpPr/>
            <p:nvPr/>
          </p:nvSpPr>
          <p:spPr>
            <a:xfrm>
              <a:off x="4572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800600"/>
              <a:ext cx="3812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62120" y="4724280"/>
              <a:ext cx="380520" cy="76320"/>
              <a:chOff x="762120" y="4724280"/>
              <a:chExt cx="380520" cy="763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7621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9475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666880" y="4724280"/>
              <a:ext cx="75960" cy="76320"/>
              <a:chOff x="2666880" y="4724280"/>
              <a:chExt cx="75960" cy="7632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266688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270360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895480" y="4724280"/>
              <a:ext cx="227880" cy="76320"/>
              <a:chOff x="2895480" y="4724280"/>
              <a:chExt cx="227880" cy="7632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289548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300636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447920" y="4724280"/>
              <a:ext cx="380520" cy="76320"/>
              <a:chOff x="1447920" y="4724280"/>
              <a:chExt cx="380520" cy="7632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14479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16333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114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9480" y="4952880"/>
            <a:ext cx="3886200" cy="228600"/>
            <a:chOff x="609480" y="4952880"/>
            <a:chExt cx="3886200" cy="228600"/>
          </a:xfrm>
        </p:grpSpPr>
        <p:sp>
          <p:nvSpPr>
            <p:cNvPr id="198" name=""/>
            <p:cNvSpPr/>
            <p:nvPr/>
          </p:nvSpPr>
          <p:spPr>
            <a:xfrm>
              <a:off x="6094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66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72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635880" y="5556240"/>
            <a:ext cx="603000" cy="1149120"/>
            <a:chOff x="6635880" y="5556240"/>
            <a:chExt cx="603000" cy="1149120"/>
          </a:xfrm>
        </p:grpSpPr>
        <p:grpSp>
          <p:nvGrpSpPr>
            <p:cNvPr id="205" name=""/>
            <p:cNvGrpSpPr/>
            <p:nvPr/>
          </p:nvGrpSpPr>
          <p:grpSpPr>
            <a:xfrm>
              <a:off x="6635880" y="6013440"/>
              <a:ext cx="603000" cy="691920"/>
              <a:chOff x="6635880" y="6013440"/>
              <a:chExt cx="603000" cy="691920"/>
            </a:xfrm>
          </p:grpSpPr>
          <p:sp>
            <p:nvSpPr>
              <p:cNvPr id="206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3588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2452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9276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2912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5000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5612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6940440" y="555624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733560" y="2590920"/>
            <a:ext cx="3886560" cy="1295280"/>
            <a:chOff x="3733560" y="2590920"/>
            <a:chExt cx="3886560" cy="1295280"/>
          </a:xfrm>
        </p:grpSpPr>
        <p:sp>
          <p:nvSpPr>
            <p:cNvPr id="226" name=""/>
            <p:cNvSpPr/>
            <p:nvPr/>
          </p:nvSpPr>
          <p:spPr>
            <a:xfrm flipV="1">
              <a:off x="76201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33560" y="3505320"/>
              <a:ext cx="3886200" cy="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7339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627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010280" y="350532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615080" cy="638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rcRect l="17010" t="46509" r="67983" b="28447"/>
          <a:stretch/>
        </p:blipFill>
        <p:spPr>
          <a:xfrm>
            <a:off x="1676520" y="3124080"/>
            <a:ext cx="201456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5760" y="227160"/>
            <a:ext cx="7615080" cy="6389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eficiencies of DAS/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rmat for representing genomic features too rigid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scription of genomic features too flexibl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IDs for genomic feature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write-back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AS/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ss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formats for representing genomic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rbitrary nesting of features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S/2 More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s Sequence Ontology (SO) for describing featur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ady to accept attribute ontologi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dd your own ontology, but publish it!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REST-Style IDs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Data Sour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genome/wormbase/1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 Typ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ormbase.org/das/genome/wormbase/1/type/tRN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http://wormbase.org/das/genome/wormbase/1/feature/gene0038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Write-Back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UT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Update identified feature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OS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wormbase/1/genome/featur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rea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ELETE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ele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omic Sans MS"/>
              </a:rPr>
              <a:t>Progress</a:t>
            </a:r>
            <a:endParaRPr b="0" lang="en-US" sz="36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raft spec up and ready for commen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ttp://www.biodas.or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rver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Allen Da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ient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Gregg Hel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ject still in flux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8T01:09:44Z</dcterms:modified>
  <cp:revision>698</cp:revision>
  <dc:subject/>
  <dc:title>Training</dc:title>
</cp:coreProperties>
</file>